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814-0D94-4273-928C-66FB8628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D28-0E73-4252-B729-4F370EA5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6B7-3D17-434B-A779-EF464D5C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8B1-A603-47BF-BED0-6241C5BA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5F0B-46E1-4D6E-B50B-A99030E2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C6B-7B2D-42F0-A391-4CEFE53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0DD7-8DCB-4759-BA59-E632E26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9272-7746-491D-AAC4-C31DF103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9DAA-616C-4431-BAC9-61C890D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CC31-4242-46D9-90AB-7BDC562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007F-DACD-42EF-835B-ECD4397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D2E-7B75-4625-BCAF-EC0F009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44A4-B957-4322-ABC8-601737F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4A68-825D-48FA-8F29-1DEB264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498F-8D9A-45DC-8AAD-7F0C7EB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15E-AC0C-4C9C-ADEE-2E62FF6C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B3E0-9070-48E3-AE66-1EE0B234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A0E-DC77-4736-9026-EC1636C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924-E2A0-4C3A-A586-494FCD42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13C-5EBD-421D-83C5-7A9C3AE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2BE-6F87-40CB-AE4D-14AAE7E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F2-3940-446B-9501-75B8440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772-0865-4F50-9B9E-85A34B14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1E0-B610-40E6-BD60-B238593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1D2-5009-44B8-93A2-F9E3CF3B9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05D-4972-493D-BD10-9007770D9B39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The 4</a:t>
            </a:r>
            <a:r>
              <a:rPr b="1" lang="en-US" sz="4400" spc="-1" strike="noStrike" baseline="30000">
                <a:solidFill>
                  <a:srgbClr val="f7cc17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Language System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gma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Nonstandard forms of English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reflect the communities of the speakers (speakers communicate as effectively as those who use Standard Englis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is for students to add Standard English to language register, not replace home dial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Food for Though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students who speak nonstandard English read texts written in Standard English, they often translate what they read into their own dialect.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of linguistically diverse students must implement a literacy program that is sensitive to and reflective of students’ backgrounds and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ragmatic Problem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d by the inability to adapt language to speaking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show little variety in language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say inappropriate or unrelated things during convers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tell stories in a disorganized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If pragmatic disorder exists, generally coexists w/other language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ragmatics Defined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se impacted directly by the rules that govern a given social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social situations vary greatly, the pragmatic system houses a great deal of language var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se varies among social classes, cultural and ethnic groups, and geographic regions (dialec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3 Major Communication Skills of Pragmatic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language for different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ng or changing language according to the needs or expectations of a listener or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rules for conversations and nar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Using Language for Different Purpose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apting or Changing Language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s upon the needs of the listener or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ing to a baby differs from talking to an ad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ing in front of a group who share your culture vs. speaking to a group who does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ing with a family member vs. conversing with your b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Narrative Exampl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ing stories (verbal and writt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ing book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unting events of th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Rules for Conversations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 for taking turns in a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ing topics of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ing on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hrasing when not underst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ing a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Rules for Conversations:  Nonverbal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between speaker and list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al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ectionate tou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Rules may vary depending on language and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Nonstandard forms of English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alachian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Vernacular English (B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lla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ern White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an Ameri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9:29:30Z</dcterms:created>
  <dc:creator>Bill </dc:creator>
  <dc:description/>
  <cp:keywords/>
  <dc:language>en-US</dc:language>
  <cp:lastModifiedBy>Bill </cp:lastModifiedBy>
  <dcterms:modified xsi:type="dcterms:W3CDTF">2007-06-03T18:32:56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